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6C9-BA5B-4414-8B21-C5D6C5E1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85F-A279-440B-87EC-CB582F0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D26-02F8-4235-A3B4-3FC95B5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6B7-E0C7-45C7-B799-14995318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752-E206-44B6-BECE-3FF80DEF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1F4-5902-4733-A048-274D3A7A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7B6-EFED-4345-9B76-2265B4E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D9D-BB99-4FF7-844A-9C916AD8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AB4-848C-4A46-8FE4-BDE81AD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BAC-AE29-4EFF-8847-F192DFD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162-B907-4987-8EAC-9A7A65C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91D-2225-41C8-982A-25362DCB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27BD-96C9-4EA0-8D94-C49C5B403D2D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914-B85D-4DA9-9803-20604BCBB65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2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concepts and architecture 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- 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125360"/>
          <a:ext cx="8305560" cy="461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305560" cy="46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New technologies – 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arget: Make innovation quick, everywhere available with high re-use of development effor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llect and drive new ideas coming from technical reas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 evaluation/filtering of new topic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678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tions and how it is handled toda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755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dentification of “Worst Case” Scenario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ticipation of System Performance can be based 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alcul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upplier Inquir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stimation based on measuremen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ncorporation to M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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d P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- Identific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utting edge applications in terms of computing performance  a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ly multimedia applica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lex scenario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refore involve many component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st Case Scenarios are worked out in conjunction with CPM and T-Manage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e.g. „Video streaming of a music clip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 (H.264 QCIF 30fps, eAAC+), displayed rotated and scaled , with Bluetooth stereo headset in use“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Calcul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446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Performance estimations are based on calculations with facts and experience under consideration of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che hit rat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us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access times (depending on external memory interfa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432320" y="1841400"/>
          <a:ext cx="429264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2320" y="1841400"/>
                    <a:ext cx="429264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79280" y="1844640"/>
            <a:ext cx="3745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CA setu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341360"/>
            <a:ext cx="3168720" cy="439272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4392720"/>
              <a:gd name="textAreaBottom" fmla="*/ 4238280 h 4392720"/>
            </a:gdLst>
            <a:ahLst/>
            <a:rect l="textAreaLeft" t="textAreaTop" r="textAreaRight" b="textAreaBottom"/>
            <a:pathLst>
              <a:path w="21600" h="29943">
                <a:moveTo>
                  <a:pt x="3600" y="0"/>
                </a:moveTo>
                <a:arcTo wR="3600" hR="3600" stAng="16200000" swAng="-5400000"/>
                <a:lnTo>
                  <a:pt x="0" y="26343"/>
                </a:lnTo>
                <a:arcTo wR="3600" hR="3600" stAng="10800000" swAng="-5400000"/>
                <a:lnTo>
                  <a:pt x="18000" y="29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Generation &amp; Famil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latform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Product to platform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M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Family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1341360"/>
            <a:ext cx="4176720" cy="439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4392720"/>
              <a:gd name="textAreaBottom" fmla="*/ 4188960 h 4392720"/>
            </a:gdLst>
            <a:ahLst/>
            <a:rect l="textAreaLeft" t="textAreaTop" r="textAreaRight" b="textAreaBottom"/>
            <a:pathLst>
              <a:path w="21600" h="22717">
                <a:moveTo>
                  <a:pt x="3600" y="0"/>
                </a:moveTo>
                <a:arcTo wR="3600" hR="3600" stAng="16200000" swAng="-5400000"/>
                <a:lnTo>
                  <a:pt x="0" y="19117"/>
                </a:lnTo>
                <a:arcTo wR="3600" hR="3600" stAng="10800000" swAng="-5400000"/>
                <a:lnTo>
                  <a:pt x="18000" y="2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neric platform/produc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Architecture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&amp;D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3357720"/>
            <a:ext cx="4032000" cy="201600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Feasibility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vers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erformance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Technical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New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Supplier Inquirie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000680" y="1409760"/>
          <a:ext cx="495288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409760"/>
                    <a:ext cx="4952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79280" y="1197000"/>
            <a:ext cx="38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llection of the worst cas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istency check of the reply with consideration of the suppliers architecture and partitioning ( CPU, DSPs, HW acc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erformance Lab – Estimation based on measurements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trapolation of “Worst Case” Scenarios on advanced platfor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 e.g. QCT 6280 ) based on measurements on existing platforms ( e.g. QCT 6250 )under consideration of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CPU clo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architectu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memory syste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3280" y="836640"/>
          <a:ext cx="3797280" cy="50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836640"/>
                    <a:ext cx="379728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084720" y="4292640"/>
            <a:ext cx="165600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Generation &amp; Family strategy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1" lang="en-US" sz="4000" spc="-1" strike="noStrike" baseline="-25000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 Outpu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0792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latform (SW + HW) portfolio incl. a mappi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market introduction strategy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R&amp;D migration plan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level 1 architecture document („50 boxes“ with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 and maintained interfac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us all the input data and market data which the decision is based 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593720"/>
            <a:ext cx="165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98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8144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upport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i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latform ass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itial component selection (reduction of sourcing complexity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velopment site proposal (by platform assignment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 profile and portfolio al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dentify key development issues (e.g.: DRM solutions, context sensitive UI, USB HS, landscape mode, second display usage, virtual slider, …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eneral” technical feasibility and performance chec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edevelopment setup (for detailed feasibility studies and long term issu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utpu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duct overview provided to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ur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OM calcul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PM and TPM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definition (in terms of technology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profile alig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&amp;D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source and budget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General” feasibility and performance statem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development Descripti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Architecture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roadma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122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s is the „M1-document for the product plat-form“ and comprises the following chapters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op-Level Architectu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Decompos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quirements and CRC cards (for finer granular componen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ess Vie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se Case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Wide Concer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SCA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S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SCA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5-15T09:35:05Z</dcterms:modified>
  <cp:revision>177</cp:revision>
  <dc:subject/>
  <dc:title>PowerPoint 簡報</dc:title>
</cp:coreProperties>
</file>